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13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6F1-4F2B-442A-A20D-860E71F9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6A2-C093-4707-AE1B-DF8A7DC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357-4927-4FA6-8275-48ACF83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755-3FB9-45EC-A0FB-DE9582A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38C-2621-43ED-A489-090D2A6B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383-1F28-46C6-B50E-F0D0E94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B6D-DA06-449E-ABF6-0548A94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D475-D6FD-4683-B018-4E64EAB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CF8D-9B05-47D9-8A7F-294F7717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DFF-FA11-4CEB-B9CA-F0CB911F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43C-8BDF-46D2-B4CD-05839F4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136-1D09-4BE3-9967-800011E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FF0-5062-4A69-895A-B147B89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664-1A8B-4091-B054-4BA2A9E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55DD-EE63-4699-9CBD-A84B6AA7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FB1-DC34-4AE3-87B1-0D566214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E3F-8B00-40E2-8B4F-B53562C4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5925-20E9-4261-BEFF-051D82C9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D26E-E132-4451-A451-04B7F591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5F54-DF96-4DB4-9B3C-48FB25B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A9B8-8588-4B70-82D3-39500F6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9E03-CE3F-4E38-819F-9C06825C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F86-F0BE-4F4E-826D-4D41A5C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3030-E213-49E2-8BC7-350DA135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9325-8B55-4E65-B370-F2063F3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5C59-D2DE-4244-B09C-04C0AA2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932E-DB99-4CE5-9225-E246760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3FE6-BB4D-4C82-966C-2BB4F89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4569-5C88-4B99-AD86-26952611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123B-CF3A-41DC-A424-544B6A95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58BF-111A-4166-9E31-2B1D3FB4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2FDF-E70A-4979-95D0-2CFF64F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19CC-D8B4-426D-947B-5E3DC65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F65-4793-45C3-BD24-BDB2FDE1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0BD3-D0D4-41D3-B48A-65C4759E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B1B5-A2AA-4E45-B422-D0C521FB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0151-B340-4AA6-8310-B892E3C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2F72-17DE-4D01-97E1-A88BAD2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C5F7-30DB-4B85-A93E-4D1F78D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B73D-5C4C-4048-8310-D2A2BAF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A1A6-DE20-4E2A-AEDE-5FB7B151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5B45-3E4C-4C80-958A-BA7E6F7D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7010-0ECE-468F-A5F5-959951C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2E1D6-AD1C-4F11-984A-3F1EDF58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602-5C85-4469-A4D6-899798D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3415-D8A7-41B9-BA37-DC34A9D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9005-EC52-4109-9DAA-F26B1A9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33CD-E745-466F-AF96-65D2CF3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BE1E-0383-43BD-B6BB-A3123790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C7D0-EE15-4021-8D96-F77AFB4E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7F84-E2DE-4DE4-ADA6-BF08CBF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D3F4-53EB-43FA-9001-F750C78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CF22-0B3F-4ABD-9E5F-8ABECDB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2571-7EA8-4964-9257-78A6BCD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1C149-FCD8-47CE-9921-63FCE458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E9-D6B5-45FA-9711-AB8A09E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C606C-6D3E-47C0-8BE3-13BCE486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75C1-0CBE-430B-AE3F-12BC123A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02F5-54D7-469D-8849-45978AA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AF3A-A2F4-40E1-A53E-3D41030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5BD8-2799-4018-B504-614FC4CB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3ECD-F85A-43DE-87D7-2EC3BF54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4576D-AEFB-415A-AFCD-B3CAA05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CA27-0089-4979-8CB5-0AAAF4A4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5FC8-E40A-46D9-8E9A-316F1D9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E725-0880-4B23-B18A-F6DAADC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F3E-E58D-4FFC-A1FD-FE39F19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3DA5E-4966-4D37-B03C-09F47734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352BE-AC06-4CA8-8212-85D1A17C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6C7B-486C-4538-898E-E5F5793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8FC-E1D7-483B-8E4F-F005CAAA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6A0-EB79-4E17-935D-E110BB0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730E-41CB-4619-B1E4-50F2B8DFDD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58A-D261-4DED-BCA5-532F1D51DC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4F7-7AE1-4088-8A60-E2667166A4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D26D-B6F4-4B74-8BC4-1FE89B585D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09A-8948-4D71-9ACE-AA3B1FA82E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723-77E3-4883-8393-8A26401F87A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" Target="slide17.xml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682560" y="1474920"/>
            <a:ext cx="846792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440" y="42861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Проверила: Поберезкая В.Ф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Выполнила: студентка 4 курс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642 группа фПМН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Вокуева О.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3571920" y="5786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ктывкар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3" name="Picture 13" descr="C:\Users\sasa\Desktop\презентация\photo003.jpg"/>
          <p:cNvPicPr/>
          <p:nvPr/>
        </p:nvPicPr>
        <p:blipFill>
          <a:blip r:embed="rId2"/>
          <a:stretch/>
        </p:blipFill>
        <p:spPr>
          <a:xfrm>
            <a:off x="1928880" y="1785960"/>
            <a:ext cx="5392800" cy="4151160"/>
          </a:xfrm>
          <a:prstGeom prst="rect">
            <a:avLst/>
          </a:prstGeom>
          <a:ln w="0">
            <a:noFill/>
          </a:ln>
        </p:spPr>
      </p:pic>
      <p:sp>
        <p:nvSpPr>
          <p:cNvPr id="364" name="Выгнутая вверх стрелка 1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низ стрелка 1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Штриховая стрелка вправо 1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9" name="Picture 2" descr="C:\Users\sasa\Desktop\презентация\photo005.jpg"/>
          <p:cNvPicPr/>
          <p:nvPr/>
        </p:nvPicPr>
        <p:blipFill>
          <a:blip r:embed="rId2"/>
          <a:stretch/>
        </p:blipFill>
        <p:spPr>
          <a:xfrm>
            <a:off x="1714680" y="1357200"/>
            <a:ext cx="5732280" cy="4413240"/>
          </a:xfrm>
          <a:prstGeom prst="rect">
            <a:avLst/>
          </a:prstGeom>
          <a:ln w="0">
            <a:noFill/>
          </a:ln>
        </p:spPr>
      </p:pic>
      <p:sp>
        <p:nvSpPr>
          <p:cNvPr id="370" name="Выгнутая вверх стрелка 4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гнутая вниз стрелка 5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Штриховая стрелка вправо 6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5" name="Picture 2" descr="C:\Users\sasa\Desktop\презентация\photo007.jpg"/>
          <p:cNvPicPr/>
          <p:nvPr/>
        </p:nvPicPr>
        <p:blipFill>
          <a:blip r:embed="rId2"/>
          <a:stretch/>
        </p:blipFill>
        <p:spPr>
          <a:xfrm>
            <a:off x="2286000" y="1452600"/>
            <a:ext cx="4159080" cy="5405400"/>
          </a:xfrm>
          <a:prstGeom prst="rect">
            <a:avLst/>
          </a:prstGeom>
          <a:ln w="0">
            <a:noFill/>
          </a:ln>
        </p:spPr>
      </p:pic>
      <p:sp>
        <p:nvSpPr>
          <p:cNvPr id="376" name="Штриховая стрелка вправо 4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1" name="Picture 2" descr="C:\Users\sasa\Desktop\презентация\photo008.jpg"/>
          <p:cNvPicPr/>
          <p:nvPr/>
        </p:nvPicPr>
        <p:blipFill>
          <a:blip r:embed="rId2"/>
          <a:stretch/>
        </p:blipFill>
        <p:spPr>
          <a:xfrm>
            <a:off x="2071800" y="1857240"/>
            <a:ext cx="5726160" cy="3865680"/>
          </a:xfrm>
          <a:prstGeom prst="rect">
            <a:avLst/>
          </a:prstGeom>
          <a:ln w="0">
            <a:noFill/>
          </a:ln>
        </p:spPr>
      </p:pic>
      <p:sp>
        <p:nvSpPr>
          <p:cNvPr id="382" name="Штриховая стрелка вправо 4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7" name="Picture 4" descr="C:\Users\sasa\Desktop\презентация\photo025.jpg"/>
          <p:cNvPicPr/>
          <p:nvPr/>
        </p:nvPicPr>
        <p:blipFill>
          <a:blip r:embed="rId2"/>
          <a:stretch/>
        </p:blipFill>
        <p:spPr>
          <a:xfrm>
            <a:off x="5000760" y="1143000"/>
            <a:ext cx="3120840" cy="4056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sasa\Desktop\презентация\photo021.jpg"/>
          <p:cNvPicPr/>
          <p:nvPr/>
        </p:nvPicPr>
        <p:blipFill>
          <a:blip r:embed="rId3"/>
          <a:stretch/>
        </p:blipFill>
        <p:spPr>
          <a:xfrm>
            <a:off x="714240" y="1928880"/>
            <a:ext cx="3121200" cy="4056120"/>
          </a:xfrm>
          <a:prstGeom prst="rect">
            <a:avLst/>
          </a:prstGeom>
          <a:ln w="0">
            <a:noFill/>
          </a:ln>
        </p:spPr>
      </p:pic>
      <p:sp>
        <p:nvSpPr>
          <p:cNvPr id="389" name="Штриховая стрелка вправо 7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Выгнутая вверх стрелка 8"/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Выгнутая вниз стрелка 9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sasa\Desktop\презентация\photo010.jpg"/>
          <p:cNvPicPr/>
          <p:nvPr/>
        </p:nvPicPr>
        <p:blipFill>
          <a:blip r:embed="rId2"/>
          <a:stretch/>
        </p:blipFill>
        <p:spPr>
          <a:xfrm>
            <a:off x="5143680" y="1357200"/>
            <a:ext cx="3452760" cy="4481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sasa\Desktop\презентация\photo012.jpg"/>
          <p:cNvPicPr/>
          <p:nvPr/>
        </p:nvPicPr>
        <p:blipFill>
          <a:blip r:embed="rId3"/>
          <a:stretch/>
        </p:blipFill>
        <p:spPr>
          <a:xfrm>
            <a:off x="714240" y="1071720"/>
            <a:ext cx="3775320" cy="4905360"/>
          </a:xfrm>
          <a:prstGeom prst="rect">
            <a:avLst/>
          </a:prstGeom>
          <a:ln w="0">
            <a:noFill/>
          </a:ln>
        </p:spPr>
      </p:pic>
      <p:sp>
        <p:nvSpPr>
          <p:cNvPr id="395" name="Штриховая стрелка вправо 5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Выгнутая вверх стрелка 6"/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Выгнутая вниз стрелка 7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2" descr="C:\Users\sasa\Desktop\презентация\photo017.jpg"/>
          <p:cNvPicPr/>
          <p:nvPr/>
        </p:nvPicPr>
        <p:blipFill>
          <a:blip r:embed="rId2"/>
          <a:stretch/>
        </p:blipFill>
        <p:spPr>
          <a:xfrm>
            <a:off x="4786200" y="2214720"/>
            <a:ext cx="4291200" cy="3301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sasa\Desktop\презентация\photo018.jpg"/>
          <p:cNvPicPr/>
          <p:nvPr/>
        </p:nvPicPr>
        <p:blipFill>
          <a:blip r:embed="rId3"/>
          <a:stretch/>
        </p:blipFill>
        <p:spPr>
          <a:xfrm>
            <a:off x="428760" y="1714680"/>
            <a:ext cx="3857400" cy="2970000"/>
          </a:xfrm>
          <a:prstGeom prst="rect">
            <a:avLst/>
          </a:prstGeom>
          <a:ln w="0">
            <a:noFill/>
          </a:ln>
        </p:spPr>
      </p:pic>
      <p:sp>
        <p:nvSpPr>
          <p:cNvPr id="402" name="Штриховая стрелка вправо 5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Выгнутая вниз стрелка 7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714400" y="135720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ое настроение у тебя после просмотра презентаци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Прямоугольник 7" descr=""/>
          <p:cNvPicPr/>
          <p:nvPr/>
        </p:nvPicPr>
        <p:blipFill>
          <a:blip r:embed="rId2"/>
          <a:stretch/>
        </p:blipFill>
        <p:spPr>
          <a:xfrm>
            <a:off x="-133200" y="3144960"/>
            <a:ext cx="4125600" cy="114120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8" descr=""/>
          <p:cNvPicPr/>
          <p:nvPr/>
        </p:nvPicPr>
        <p:blipFill>
          <a:blip r:embed="rId3"/>
          <a:stretch/>
        </p:blipFill>
        <p:spPr>
          <a:xfrm>
            <a:off x="5638680" y="3213000"/>
            <a:ext cx="3346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1.Т.Я Шпикалова, Л.В. Ершова Изобразительное искусство, учебник 3 класс – М., Просвещение, 2002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2.Т.Я Шпикалова, Л.В. Ершова Изобразительное искусство, творческая тетрадь 3 класс – М., Просвещение, 2004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3.Т.Я Шпикалова, Изобразительное искусство, методическое пособие к учебнику 3 класс – М., Просвещение, 2002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//ru.wikipedia.org/wiki/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майол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/</a:t>
            </a: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yandex.ru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виды керам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/</a:t>
            </a: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google.com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гжельская роспись майол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86080" y="1145880"/>
            <a:ext cx="6143040" cy="4501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7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1066680"/>
            <a:ext cx="5888160" cy="120672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4" descr=""/>
          <p:cNvPicPr/>
          <p:nvPr/>
        </p:nvPicPr>
        <p:blipFill>
          <a:blip r:embed="rId3"/>
          <a:stretch/>
        </p:blipFill>
        <p:spPr>
          <a:xfrm>
            <a:off x="-249120" y="1785960"/>
            <a:ext cx="9343800" cy="11462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5" descr=""/>
          <p:cNvPicPr/>
          <p:nvPr/>
        </p:nvPicPr>
        <p:blipFill>
          <a:blip r:embed="rId4"/>
          <a:stretch/>
        </p:blipFill>
        <p:spPr>
          <a:xfrm>
            <a:off x="-262080" y="2651040"/>
            <a:ext cx="10009440" cy="12016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6" descr=""/>
          <p:cNvPicPr/>
          <p:nvPr/>
        </p:nvPicPr>
        <p:blipFill>
          <a:blip r:embed="rId5"/>
          <a:stretch/>
        </p:blipFill>
        <p:spPr>
          <a:xfrm>
            <a:off x="334800" y="3597120"/>
            <a:ext cx="8321760" cy="184644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7" descr=""/>
          <p:cNvPicPr/>
          <p:nvPr/>
        </p:nvPicPr>
        <p:blipFill>
          <a:blip r:embed="rId6"/>
          <a:stretch/>
        </p:blipFill>
        <p:spPr>
          <a:xfrm>
            <a:off x="500040" y="4784760"/>
            <a:ext cx="7156440" cy="120816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9240" y="5754600"/>
            <a:ext cx="4662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501920" y="2237400"/>
            <a:ext cx="5675040" cy="2949480"/>
          </a:xfrm>
          <a:prstGeom prst="rect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10173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айол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( 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Maiolica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 — Мальорка) — от итал. разновидность керамики, изготавливаемой из обожжённой глины с использованием расписной глазури. изготовляются как декоративные панно, наличники, изразцы и пос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Штриховая стрелка вправо 3">
            <a:hlinkClick r:id="rId1" action="ppaction://hlinksldjump"/>
          </p:cNvPr>
          <p:cNvSpPr/>
          <p:nvPr/>
        </p:nvSpPr>
        <p:spPr>
          <a:xfrm rot="16200000">
            <a:off x="856440" y="535860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1420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Производство керамических изделий из обожжённой цветной глины с крупнопористым черепком, покрытых глазурью, существовало уже несколько тысячелетий назад в Египте и  Вавило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Штриховая стрелка вправо 3">
            <a:hlinkClick r:id="rId2" action="ppaction://hlinksldjump"/>
          </p:cNvPr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гнутая вверх стрелка 4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гнутая вниз стрелка 5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sasa\Desktop\презентация\Новая папка\Безымянный.jpg"/>
          <p:cNvPicPr/>
          <p:nvPr/>
        </p:nvPicPr>
        <p:blipFill>
          <a:blip r:embed="rId1"/>
          <a:stretch/>
        </p:blipFill>
        <p:spPr>
          <a:xfrm>
            <a:off x="2571840" y="396540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Италию майолика попадала из мавританской Испании через остров Мальорку, от названия которого и произошёл термин «майолика». Техника получила распространение в Италии в XIV в. и достигла расцвета в XVII 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Штриховая стрелка вправо 4">
            <a:hlinkClick r:id="rId3" action="ppaction://hlinksldjump"/>
          </p:cNvPr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85840" y="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рупным центром майолики ещё в XVII веке был Ярославль, где производились поливные изразцы для украшения стен храмов и интерьеров дом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42920" y="2714760"/>
            <a:ext cx="3314520" cy="3857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357880" y="2000160"/>
            <a:ext cx="3286080" cy="3643560"/>
          </a:xfrm>
          <a:prstGeom prst="rect">
            <a:avLst/>
          </a:prstGeom>
          <a:ln w="0">
            <a:noFill/>
          </a:ln>
        </p:spPr>
      </p:pic>
      <p:sp>
        <p:nvSpPr>
          <p:cNvPr id="341" name="Штриховая стрелка вправо 5">
            <a:hlinkClick r:id="rId3" action="ppaction://hlinksldjump"/>
          </p:cNvPr>
          <p:cNvSpPr/>
          <p:nvPr/>
        </p:nvSpPr>
        <p:spPr>
          <a:xfrm rot="16200000">
            <a:off x="3535920" y="610740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Выгнутая вверх стрелка 6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гнутая вниз стрелка 7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asa\Desktop\презентация\photo002.jpg"/>
          <p:cNvPicPr/>
          <p:nvPr/>
        </p:nvPicPr>
        <p:blipFill>
          <a:blip r:embed="rId2"/>
          <a:stretch/>
        </p:blipFill>
        <p:spPr>
          <a:xfrm>
            <a:off x="1928880" y="1571760"/>
            <a:ext cx="354312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верх стрелка 6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Выгнутая вниз стрелка 7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Штриховая стрелка вправо 8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asa\Desktop\презентация\8.jpg"/>
          <p:cNvPicPr/>
          <p:nvPr/>
        </p:nvPicPr>
        <p:blipFill>
          <a:blip r:embed="rId2"/>
          <a:srcRect l="11527" t="67241" r="59867" b="0"/>
          <a:stretch/>
        </p:blipFill>
        <p:spPr>
          <a:xfrm>
            <a:off x="285840" y="1500120"/>
            <a:ext cx="4567320" cy="43401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5143680" y="1357200"/>
            <a:ext cx="3786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эскизам  художников опытные мастера-модельщики на специальный станках вытачивают гипсовые модели будущи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Штриховая стрелка вправо 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Традиционная роспись - выполненные от руки растительные и геометрические орнаменты, нанесенные быстрыми, сочными мазками кисти. Используются цвета: жёлтый, зелёный, синий, коричневый, красны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7" name="Picture 2" descr="C:\Users\sasa\Desktop\презентация\Новая папка\Безымянный1.jpg"/>
          <p:cNvPicPr/>
          <p:nvPr/>
        </p:nvPicPr>
        <p:blipFill>
          <a:blip r:embed="rId2"/>
          <a:stretch/>
        </p:blipFill>
        <p:spPr>
          <a:xfrm>
            <a:off x="2071800" y="3500280"/>
            <a:ext cx="4471920" cy="3160800"/>
          </a:xfrm>
          <a:prstGeom prst="rect">
            <a:avLst/>
          </a:prstGeom>
          <a:ln w="0">
            <a:noFill/>
          </a:ln>
        </p:spPr>
      </p:pic>
      <p:sp>
        <p:nvSpPr>
          <p:cNvPr id="358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Штриховая стрелка вправо 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18:44Z</dcterms:created>
  <dc:creator>sasa</dc:creator>
  <dc:description/>
  <dc:language>en-US</dc:language>
  <cp:lastModifiedBy>Admin</cp:lastModifiedBy>
  <dcterms:modified xsi:type="dcterms:W3CDTF">2011-03-21T20:03:36Z</dcterms:modified>
  <cp:revision>16</cp:revision>
  <dc:subject/>
  <dc:title>ГЖЕЛЬСКАЯ РОСПИСЬ МАЙОЛИКА</dc:title>
</cp:coreProperties>
</file>